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04748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0474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0474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205704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205704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0474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0474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0474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18B14-8E82-4AFA-9B56-933A67BFA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20570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FD9F6-B914-42D2-8688-D55DCB580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8E86A-D102-4D22-8C0B-CF9690F0C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80DE9-C92B-4C81-9EB5-F3EFD4A9A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5E3A8-3A35-4D7F-B0FD-0AB96303D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71BD9-54C3-42EA-A3CA-9AF62EA35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0474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570D9-8D1A-4244-A133-CA33E502B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20570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0474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80A6F-0E28-492A-9AAA-2BDC495BA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04748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B518E-4660-4B64-92F4-C88899323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04748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CB139-2ED3-4E49-9111-0396C7D42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0474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0474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26D46-47DD-4DCD-9E8F-7FBEFEDA0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205704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205704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0474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0474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0474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CC162-EAF3-4E20-AA61-28AF46228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0474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0474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04748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faa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20570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11819-6A12-4192-ADCF-4436860EA8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title"/>
          </p:nvPr>
        </p:nvSpPr>
        <p:spPr>
          <a:xfrm>
            <a:off x="685800" y="2895120"/>
            <a:ext cx="4952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5faa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iki.esipfed.org/index.php/AIP_AQ_Unified_Scenario" TargetMode="External"/><Relationship Id="rId2" Type="http://schemas.openxmlformats.org/officeDocument/2006/relationships/hyperlink" Target="http://wiki.esipfed.org/index.php/GEOSS_AIP_AQ_Scenario" TargetMode="External"/><Relationship Id="rId3" Type="http://schemas.openxmlformats.org/officeDocument/2006/relationships/hyperlink" Target="http://wiki.esipfed.org/index.php/GEOSS_AIP_AQ_Scenario" TargetMode="External"/><Relationship Id="rId4" Type="http://schemas.openxmlformats.org/officeDocument/2006/relationships/hyperlink" Target="http://wiki.esipfed.org/index.php/Talk:GEOSS_AIP_AQ_Scenario" TargetMode="External"/><Relationship Id="rId5" Type="http://schemas.openxmlformats.org/officeDocument/2006/relationships/hyperlink" Target="http://wiki.esipfed.org/index.php/GEOSS_AIP_AQ_Scenario" TargetMode="External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74720" y="1955520"/>
            <a:ext cx="808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5faa"/>
                </a:solidFill>
                <a:latin typeface="Arial"/>
              </a:rPr>
              <a:t>GEOSS ADC </a:t>
            </a:r>
            <a:br>
              <a:rPr sz="3600"/>
            </a:br>
            <a:r>
              <a:rPr b="1" lang="en-US" sz="3600" spc="-1" strike="noStrike">
                <a:solidFill>
                  <a:srgbClr val="005faa"/>
                </a:solidFill>
                <a:latin typeface="Arial"/>
              </a:rPr>
              <a:t>Air Quality &amp; Health Scenario </a:t>
            </a:r>
            <a:br>
              <a:rPr sz="3600"/>
            </a:br>
            <a:endParaRPr b="1" lang="en-US" sz="36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8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hn E. Wh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.S. Environmental Protection Ag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te.johne@epa.go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66720" y="704880"/>
            <a:ext cx="814392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ir Quality Scenario </a:t>
            </a:r>
            <a:r>
              <a:rPr b="1" lang="en-US" sz="2800" spc="-1" strike="noStrike" u="sng">
                <a:solidFill>
                  <a:srgbClr val="005faa"/>
                </a:solidFill>
                <a:uFillTx/>
                <a:latin typeface="Arial"/>
              </a:rPr>
              <a:t>Development Process</a:t>
            </a: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1920" y="1781280"/>
            <a:ext cx="899172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enario was developed iteratively by a collaborating multi-organization gro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d the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ESIP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ik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telecons to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discus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develop the submitted scenari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Community of Practic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to co-evolve with the AIP Pilot and other activ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6"/>
          <a:stretch/>
        </p:blipFill>
        <p:spPr>
          <a:xfrm>
            <a:off x="1871640" y="3025800"/>
            <a:ext cx="5429160" cy="35179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istrator</cp:lastModifiedBy>
  <dcterms:modified xsi:type="dcterms:W3CDTF">2008-02-03T18:46:44Z</dcterms:modified>
  <cp:revision>227</cp:revision>
  <dc:subject/>
  <dc:title>Update on OGC involvement in GEOSS</dc:title>
</cp:coreProperties>
</file>